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729A-47C8-40FB-95AF-987E6122C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3BB5-0DEB-46C8-ADCA-5D86EBA51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C771-7BCC-44A9-8912-681B59862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1053-834D-4352-B168-370FB0FE7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E38C-3720-457A-8A2C-14F5FF0F9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D7E0-B567-453E-BA81-67D54B26B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6CC4-3B41-43AB-961C-8749531A2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0FC7-59B7-4A11-8FD0-E939AC0B0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C697-E3AC-4A73-BC56-D6F9E5EB7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54CC-137F-4D0E-AB1E-645154D7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0872-0011-4884-AD82-9A8FF9C6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7292-6805-4CAE-8B84-24A9C8E3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55E90-8A38-47CA-86AB-C8F039FFE4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ison Belcher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vanced One Photograph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i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gra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248160" cy="43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inting With Ligh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host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3151080" cy="4095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724280" y="2362320"/>
            <a:ext cx="346896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nd Coloring 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 Choice #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2819160" cy="4191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343400" y="1752480"/>
            <a:ext cx="38815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ner Portrai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316224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14800" y="114264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by Pictu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880" y="1036800"/>
            <a:ext cx="3581640" cy="2763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191120" y="2590920"/>
            <a:ext cx="434340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8:00:33Z</dcterms:created>
  <dc:creator>bal_akbelcher</dc:creator>
  <dc:description/>
  <dc:language>en-US</dc:language>
  <cp:lastModifiedBy>bal_akbelcher</cp:lastModifiedBy>
  <dcterms:modified xsi:type="dcterms:W3CDTF">2009-05-22T17:39:48Z</dcterms:modified>
  <cp:revision>5</cp:revision>
  <dc:subject/>
  <dc:title>Allison Belcher  Advanced One Photography </dc:title>
</cp:coreProperties>
</file>